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A06-8D71-48BB-A88F-89506600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7F1-7626-42D6-A729-4FCCFEC0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01A-17EE-4F6C-93F6-D91B56BF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167-1E39-4C3C-8AD7-D9696205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E1EE-C2C0-4111-B88B-ABC55C6D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973A-2852-4258-A341-F727EE18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8884-A669-4EDD-BF20-02FA079F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4D54-67DF-4AED-96DA-178574EF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4903-A359-4C8A-ADE3-41CF3CD4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A24E-7E1D-4F3B-A4DC-01008DA6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17D4-CDF4-4381-9F98-0F6C0F8D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9BB-5863-4FCC-90F5-7E2330D7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532A-E3DA-4FD7-8261-934B5B3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1189-F65A-45C4-9421-4728EE86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4C2B-50F5-4B97-8F30-D0C7CC44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C792-A50D-41E7-BDAF-7BC2FAD1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A962-777A-480D-B627-BC37D853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3A4-89AE-4C45-845E-70936099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A9B-2631-48C8-A197-71CC8A63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205-B97D-405D-8A95-43D8169D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E41-FBA5-421D-B40E-F4E1A325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F14-2910-4204-8891-0A2C58BE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71A-7F78-40A2-B4C6-868CB191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1A5-9515-42F3-A469-3542A41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8B37-9A83-408F-A6A9-421D0E3C9E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AC91-04BD-4055-AF77-C6585D8EB7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ct"/><Relationship Id="rId5" Type="http://schemas.openxmlformats.org/officeDocument/2006/relationships/package" Target="../embeddings/oleObject2.docx"/><Relationship Id="rId6" Type="http://schemas.openxmlformats.org/officeDocument/2006/relationships/image" Target="../media/image4.pct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838080"/>
            <a:ext cx="7620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The real voyage of discovery lies not in seeking new landscapes, but in having new ey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MS Pゴシック"/>
              </a:rPr>
              <a:t>-Marcel Proust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480060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505320" y="8380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71920" y="76212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58280" y="503712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5840" y="4876920"/>
            <a:ext cx="23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05320" y="45720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562720"/>
            <a:ext cx="25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567160"/>
            <a:ext cx="5410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ssential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Words/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1" lang="en-US" sz="2400" spc="-1" strike="noStrike">
                <a:solidFill>
                  <a:srgbClr val="000000"/>
                </a:solidFill>
                <a:latin typeface="ヒラギノ角ゴ Pro W3"/>
              </a:rPr>
              <a:t>_x0010_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le class lear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Knows, understands, able to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8076960" cy="5815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29000" y="38088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0760" y="5562720"/>
            <a:ext cx="23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657600"/>
            <a:ext cx="56390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textu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592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9720" y="585144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133720"/>
            <a:ext cx="434340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ectful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5924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9720" y="585144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560680"/>
            <a:ext cx="586728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8610480" cy="5333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29120" y="53352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836720"/>
            <a:ext cx="5105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uring          Understa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Readiness, Interests,    Learning pro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839080" cy="5815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24200" y="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962520"/>
            <a:ext cx="68580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nceptualiz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52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491200">
              <a:off x="4830480" y="1950480"/>
              <a:ext cx="2409840" cy="1321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a4"/>
                  </a:solidFill>
                  <a:latin typeface="Arial Narrow"/>
                </a:rPr>
                <a:t>Stud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a4"/>
                  </a:solidFill>
                  <a:latin typeface="Arial Narrow"/>
                </a:rPr>
                <a:t>Engagem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55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a4"/>
                  </a:solidFill>
                  <a:latin typeface="Arial"/>
                </a:rPr>
                <a:t>Wh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a4"/>
                  </a:solidFill>
                  <a:latin typeface="Arial"/>
                </a:rPr>
                <a:t>Ho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a4"/>
                  </a:solidFill>
                  <a:latin typeface="Arial"/>
                </a:rPr>
                <a:t>Wha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838080"/>
            <a:ext cx="7620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The real voyage of discovery lies not in seeking new landscapes, but in having new ey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MS Pゴシック"/>
              </a:rPr>
              <a:t>-Marcel Proust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838080"/>
            <a:ext cx="762012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What new eyes are you seeking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2666880"/>
            <a:ext cx="110664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5560" y="2666880"/>
            <a:ext cx="1219320" cy="1054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2666880"/>
            <a:ext cx="121932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74320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1828800" cy="15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762120" y="1523880"/>
          <a:ext cx="9754920" cy="45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523880"/>
                    <a:ext cx="975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28600" y="4495680"/>
          <a:ext cx="8612280" cy="590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495680"/>
                    <a:ext cx="8612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884320" y="1247760"/>
            <a:ext cx="33782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5867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oni Theisen</a:t>
            </a: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 High Schoo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ompson School Distric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, CO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970-482-2606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akar95@verinet.com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2819520"/>
            <a:ext cx="13716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2971800"/>
            <a:ext cx="1295280" cy="11206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895480"/>
            <a:ext cx="1143000" cy="1143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2743200"/>
            <a:ext cx="1214640" cy="12142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e36e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ve Universal Cultural Shapes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1432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1371600"/>
            <a:ext cx="7924680" cy="4038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hat is teaching?</a:t>
            </a: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squar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411480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  plus sign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057400"/>
            <a:ext cx="4190760" cy="419112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e36e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circl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90920" y="21337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Comic Sans MS"/>
              </a:rPr>
              <a:t>How is </a:t>
            </a: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teaching</a:t>
            </a:r>
            <a:r>
              <a:rPr b="0" lang="en-US" sz="5400" spc="-1" strike="noStrike">
                <a:solidFill>
                  <a:srgbClr val="b7e7ff"/>
                </a:solidFill>
                <a:latin typeface="Comic Sans MS"/>
              </a:rPr>
              <a:t> like a spiral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62320" y="2590920"/>
            <a:ext cx="4419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triangl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292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21:57:03Z</dcterms:created>
  <dc:creator>Toni Theisen</dc:creator>
  <dc:description/>
  <dc:language>en-US</dc:language>
  <cp:lastModifiedBy>Toni Theisen</cp:lastModifiedBy>
  <dcterms:modified xsi:type="dcterms:W3CDTF">2006-10-15T21:01:10Z</dcterms:modified>
  <cp:revision>77</cp:revision>
  <dc:subject/>
  <dc:title>Essential Question:</dc:title>
</cp:coreProperties>
</file>